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A547-EBEF-4250-93BF-146C0D735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5E20-2EB5-4212-93E8-CB752C504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185D-6476-4D33-9375-6120F8151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1AE9-35AA-4EFE-B3C4-CF92AC82B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A443-4D41-41A3-9804-F4C582D00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EBB0-A9AC-4528-A404-9C813673C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E2F3-D871-4113-AA80-3CBE16830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D6D3-2DFD-427F-8C43-F93444122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D778-8C91-4ABB-B232-FDEC0046B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6E2C-9996-4BD3-851E-B9ACAED1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63F5-C6B7-469C-BCE0-73E45452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8773-F5CA-496E-8363-63941FFA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A185A-B6BA-403D-8BD1-9537653CDB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06320" y="5714640"/>
            <a:ext cx="5715000" cy="8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http://upload.wikimedia.org/wikipedia/commons/thumb/5/58/Growth_of_Russia_1613-1914.png/1280px-Growth_of_Russia_1613-1914.png"/>
          <p:cNvPicPr/>
          <p:nvPr/>
        </p:nvPicPr>
        <p:blipFill>
          <a:blip r:embed="rId1"/>
          <a:stretch/>
        </p:blipFill>
        <p:spPr>
          <a:xfrm>
            <a:off x="114480" y="304920"/>
            <a:ext cx="899136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834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sso-Japanese War 1904-190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6760" y="10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hts danke Willy—Imperialism gone wr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ve sunk my Battleship!- Port Arthur—How do you spell lose?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 u s s I 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ific Fleet…then Bal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 Rescue- Witte best supporting role- save face- Treaty of Portsm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2002_5144_s"/>
          <p:cNvPicPr/>
          <p:nvPr/>
        </p:nvPicPr>
        <p:blipFill>
          <a:blip r:embed="rId1"/>
          <a:stretch/>
        </p:blipFill>
        <p:spPr>
          <a:xfrm>
            <a:off x="380880" y="4334040"/>
            <a:ext cx="3930840" cy="2590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image?id=64880&amp;rendTypeId=4"/>
          <p:cNvPicPr/>
          <p:nvPr/>
        </p:nvPicPr>
        <p:blipFill>
          <a:blip r:embed="rId2"/>
          <a:stretch/>
        </p:blipFill>
        <p:spPr>
          <a:xfrm>
            <a:off x="5715000" y="4375080"/>
            <a:ext cx="3286080" cy="21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http://media.web.britannica.com/eb-media/17/84517-004-4DBBB30A.jpg"/>
          <p:cNvPicPr/>
          <p:nvPr/>
        </p:nvPicPr>
        <p:blipFill>
          <a:blip r:embed="rId2"/>
          <a:stretch/>
        </p:blipFill>
        <p:spPr>
          <a:xfrm>
            <a:off x="63360" y="-136440"/>
            <a:ext cx="3060720" cy="2981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http://seacoastnh.com/navyyard/treaty/paper.jpeg"/>
          <p:cNvPicPr/>
          <p:nvPr/>
        </p:nvPicPr>
        <p:blipFill>
          <a:blip r:embed="rId3"/>
          <a:stretch/>
        </p:blipFill>
        <p:spPr>
          <a:xfrm>
            <a:off x="4648320" y="152280"/>
            <a:ext cx="4286160" cy="3181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http://www.fortunecity.com/olympia/ince/698/selornia/PoltavaSunk.jpg"/>
          <p:cNvPicPr/>
          <p:nvPr/>
        </p:nvPicPr>
        <p:blipFill>
          <a:blip r:embed="rId4"/>
          <a:stretch/>
        </p:blipFill>
        <p:spPr>
          <a:xfrm>
            <a:off x="1911240" y="3333600"/>
            <a:ext cx="4880160" cy="32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124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nda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loody Sun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img0005"/>
          <p:cNvPicPr/>
          <p:nvPr/>
        </p:nvPicPr>
        <p:blipFill>
          <a:blip r:embed="rId1"/>
          <a:stretch/>
        </p:blipFill>
        <p:spPr>
          <a:xfrm>
            <a:off x="0" y="1676520"/>
            <a:ext cx="6019920" cy="4012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rr19"/>
          <p:cNvPicPr/>
          <p:nvPr/>
        </p:nvPicPr>
        <p:blipFill>
          <a:blip r:embed="rId2"/>
          <a:stretch/>
        </p:blipFill>
        <p:spPr>
          <a:xfrm>
            <a:off x="3162240" y="0"/>
            <a:ext cx="5715000" cy="3817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3368530"/>
          <p:cNvPicPr/>
          <p:nvPr/>
        </p:nvPicPr>
        <p:blipFill>
          <a:blip r:embed="rId3"/>
          <a:stretch/>
        </p:blipFill>
        <p:spPr>
          <a:xfrm>
            <a:off x="5715000" y="2514600"/>
            <a:ext cx="3303720" cy="4210200"/>
          </a:xfrm>
          <a:prstGeom prst="rect">
            <a:avLst/>
          </a:prstGeom>
          <a:ln w="0">
            <a:noFill/>
          </a:ln>
        </p:spPr>
      </p:pic>
      <p:sp>
        <p:nvSpPr>
          <p:cNvPr id="84" name="TextBox 1"/>
          <p:cNvSpPr/>
          <p:nvPr/>
        </p:nvSpPr>
        <p:spPr>
          <a:xfrm>
            <a:off x="0" y="568944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ther Gapon—how could this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patriotism go so wro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saravich Alex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bump or bruise rupturing a tiny blood vessel beneath the skin could begin the slow seepage of blood in surrounding muscle and tissue. Instead of clotting…the blood continued to flow unchecked for hours…Eventually , when the skin was hard and tight, filled with blood like a balloon, pressure slowed the hemorrhage. Once although no pain..The Tsaravich almost died from a nosebleed.”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05-190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00+ govt. workers killed by rioters/radic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??revolutionaries died—govt claims 600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ots, Baltic states, Poland, Finland, military, months of cha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te- advises Duma, Military advises Du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holas gives in, but the riots don’t stop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itutional Governm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ma I, Duma II-&gt; Duma 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te Fired-&gt;Stolyp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2642477"/>
          <p:cNvPicPr/>
          <p:nvPr/>
        </p:nvPicPr>
        <p:blipFill>
          <a:blip r:embed="rId1"/>
          <a:stretch/>
        </p:blipFill>
        <p:spPr>
          <a:xfrm>
            <a:off x="304920" y="3124080"/>
            <a:ext cx="5657760" cy="3372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%7B243C216B-6624-42D1-8860-0E454FFCC122%7D"/>
          <p:cNvPicPr/>
          <p:nvPr/>
        </p:nvPicPr>
        <p:blipFill>
          <a:blip r:embed="rId2"/>
          <a:stretch/>
        </p:blipFill>
        <p:spPr>
          <a:xfrm>
            <a:off x="4943520" y="2438280"/>
            <a:ext cx="4200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ly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520" y="160020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ice w/in months bombed—31 die. Son and daughter injured—Stolypin works—600+ hanged throughout Rus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ervative-not reaction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 Reform for Peasants…end of the M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image?id=9236&amp;rendTypeId=4"/>
          <p:cNvPicPr/>
          <p:nvPr/>
        </p:nvPicPr>
        <p:blipFill>
          <a:blip r:embed="rId1"/>
          <a:stretch/>
        </p:blipFill>
        <p:spPr>
          <a:xfrm>
            <a:off x="155520" y="46080"/>
            <a:ext cx="22669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06-19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ining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uma—finally o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sput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 Harvests!— Developing s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tional investment, even Singer Sewing Machines! International Harvester Tru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08 Balkans cr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11 Stolypin assassin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sput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4952520"/>
            <a:ext cx="5943600" cy="18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“staret”, disheveled, unkept, Peasant, incredible suc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least 2x Alexis at death’s d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http://wac.0873.edgecastcdn.net/800873/blog/wp-content/uploads/Rasputin-closeup-292x300.gif"/>
          <p:cNvPicPr/>
          <p:nvPr/>
        </p:nvPicPr>
        <p:blipFill>
          <a:blip r:embed="rId1"/>
          <a:stretch/>
        </p:blipFill>
        <p:spPr>
          <a:xfrm>
            <a:off x="93600" y="0"/>
            <a:ext cx="2781360" cy="2857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http://altrapoint.nextcity.info/wp-content/uploads/2011/08/Rasputin-06.jpg"/>
          <p:cNvPicPr/>
          <p:nvPr/>
        </p:nvPicPr>
        <p:blipFill>
          <a:blip r:embed="rId2"/>
          <a:stretch/>
        </p:blipFill>
        <p:spPr>
          <a:xfrm>
            <a:off x="3294000" y="0"/>
            <a:ext cx="571500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12-19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ma and Ministers working effecti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ters of Alexandra re: Rasputin become Pub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d strong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lkan crisis gr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omanov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27008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hael Romanov-&gt;rose to power 1613, after Ivan the Terrible and subsequent “Time of Troubl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ter the Great-&gt;Late 17C -&gt;westernized, capital -&gt;St. Petersburg-&gt;shaved the beards, aristocracy-&gt;military caste, controlled the church (Orthodo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herine the Great-&gt;German Princess-&gt;killed her husband?-&gt;Enlightened Despot?-&gt;Partition of Poland-&gt;Potemkin Villag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http://www.freevectorartwork.org/images/russian-eagle-symbol-free-vector-artwork-2984.jpg"/>
          <p:cNvPicPr/>
          <p:nvPr/>
        </p:nvPicPr>
        <p:blipFill>
          <a:blip r:embed="rId1"/>
          <a:stretch/>
        </p:blipFill>
        <p:spPr>
          <a:xfrm>
            <a:off x="7848720" y="0"/>
            <a:ext cx="1293840" cy="1419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http://www.freevectorartwork.org/images/russian-eagle-symbol-free-vector-artwork-2984.jpg"/>
          <p:cNvPicPr/>
          <p:nvPr/>
        </p:nvPicPr>
        <p:blipFill>
          <a:blip r:embed="rId2"/>
          <a:stretch/>
        </p:blipFill>
        <p:spPr>
          <a:xfrm>
            <a:off x="9360" y="46080"/>
            <a:ext cx="10573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p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880" y="2625840"/>
            <a:ext cx="8305920" cy="423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ign born? German/Engl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oof, Prim, Victorian- Grandmama helped raise 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nd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o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ingly disli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http://farm3.staticflickr.com/2423/3700420846_326abb7342.jpg"/>
          <p:cNvPicPr/>
          <p:nvPr/>
        </p:nvPicPr>
        <p:blipFill>
          <a:blip r:embed="rId1"/>
          <a:stretch/>
        </p:blipFill>
        <p:spPr>
          <a:xfrm>
            <a:off x="152280" y="-22320"/>
            <a:ext cx="2057400" cy="26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manov family 19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ulated? Isolate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o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exis last b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Russiafam"/>
          <p:cNvPicPr/>
          <p:nvPr/>
        </p:nvPicPr>
        <p:blipFill>
          <a:blip r:embed="rId1"/>
          <a:stretch/>
        </p:blipFill>
        <p:spPr>
          <a:xfrm>
            <a:off x="4648320" y="2209680"/>
            <a:ext cx="3819240" cy="36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entury Roman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ander I 1801-182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atherine’s Grandson, killed his father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ied w/Napoleon after the Battle of Troppau, defeated him l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ished Holy All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embrist Revolt- upon death Alexander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ssian officers influenced by French Revolution- fai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cholas I 1825-18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ther of Alexander (other brother, Constantine Duke of Warsa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sive, Subdues Polish Rebellion 1831, helps Franz Joseph in 1848 defeat Hungarians (Magyars)- Increased Secret Pol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mean War- 1853-18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o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y 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http://www.freevectorartwork.org/images/russian-eagle-symbol-free-vector-artwork-2984.jpg"/>
          <p:cNvPicPr/>
          <p:nvPr/>
        </p:nvPicPr>
        <p:blipFill>
          <a:blip r:embed="rId1"/>
          <a:stretch/>
        </p:blipFill>
        <p:spPr>
          <a:xfrm>
            <a:off x="7848720" y="0"/>
            <a:ext cx="1293840" cy="1419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http://www.freevectorartwork.org/images/russian-eagle-symbol-free-vector-artwork-2984.jpg"/>
          <p:cNvPicPr/>
          <p:nvPr/>
        </p:nvPicPr>
        <p:blipFill>
          <a:blip r:embed="rId2"/>
          <a:stretch/>
        </p:blipFill>
        <p:spPr>
          <a:xfrm>
            <a:off x="0" y="73080"/>
            <a:ext cx="129384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exander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exander II (1855-188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ncipated Ser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ment of Zemst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Emperors Lea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sso-Turk war 1878- Failed Treaty San Stefano-&gt; Congress of Ber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assinated-&gt;Church of the Bloody Savi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tiliated he died at the Pa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ltural Life 19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e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les- Bakunin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lectu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shkin- Boris Gudon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stoyevsky- Brother’s Karamas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lstoy- War and Pe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khov- The Seagu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haikovs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dical Revolution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ill of the People, Land and Free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exander III (1881-189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ervativ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archy, Church, Rus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gr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alized power-&gt;Took power away from Zemst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lled Alexander Ulyanov-&gt;member of the Will of the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insurance treaty w/Germany- Beginnings Entente w/F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ialization- Serge Wit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alex3russia1845"/>
          <p:cNvPicPr/>
          <p:nvPr/>
        </p:nvPicPr>
        <p:blipFill>
          <a:blip r:embed="rId1"/>
          <a:stretch/>
        </p:blipFill>
        <p:spPr>
          <a:xfrm>
            <a:off x="6781680" y="7920"/>
            <a:ext cx="2362320" cy="33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899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icholas II 1894-19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8672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udite, Immature? Easily manipul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fe Alexandra (German Princess) granddaughter of Queen Victo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mophilia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lexis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i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te (comparable to who in history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image?id=28276&amp;rendTypeId=4"/>
          <p:cNvPicPr/>
          <p:nvPr/>
        </p:nvPicPr>
        <p:blipFill>
          <a:blip r:embed="rId1"/>
          <a:stretch/>
        </p:blipFill>
        <p:spPr>
          <a:xfrm>
            <a:off x="6356520" y="0"/>
            <a:ext cx="2787480" cy="3524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http://pix.avaxnews.com/avaxnews/99/46/00004699_medium.jpeg"/>
          <p:cNvPicPr/>
          <p:nvPr/>
        </p:nvPicPr>
        <p:blipFill>
          <a:blip r:embed="rId2"/>
          <a:stretch/>
        </p:blipFill>
        <p:spPr>
          <a:xfrm>
            <a:off x="6356520" y="3733920"/>
            <a:ext cx="1842840" cy="25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960" y="274320"/>
            <a:ext cx="5105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’s good to be Ts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http://www.embajada-alemana-costarica.org/wp-content/uploads/2010/11/d5.jpg"/>
          <p:cNvPicPr/>
          <p:nvPr/>
        </p:nvPicPr>
        <p:blipFill>
          <a:blip r:embed="rId1"/>
          <a:stretch/>
        </p:blipFill>
        <p:spPr>
          <a:xfrm>
            <a:off x="914400" y="838080"/>
            <a:ext cx="7591320" cy="5372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http://a1.ec-images.myspacecdn.com/images02/103/e2ac9e149d824041bb640bc98257fa8d/l.jpg"/>
          <p:cNvPicPr/>
          <p:nvPr/>
        </p:nvPicPr>
        <p:blipFill>
          <a:blip r:embed="rId2"/>
          <a:stretch/>
        </p:blipFill>
        <p:spPr>
          <a:xfrm>
            <a:off x="0" y="4022640"/>
            <a:ext cx="3886200" cy="2559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http://www.colourbox.com/preview/2962864-263600-livadia-palace-summer-retreat-of-the-last-russian-tsar-nicholas-ii-crimea-ukrainebuilt-in-1911-by-architect-np.jpg"/>
          <p:cNvPicPr/>
          <p:nvPr/>
        </p:nvPicPr>
        <p:blipFill>
          <a:blip r:embed="rId3"/>
          <a:stretch/>
        </p:blipFill>
        <p:spPr>
          <a:xfrm>
            <a:off x="5562720" y="187200"/>
            <a:ext cx="360504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4784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ci Fra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1905120" y="1752480"/>
            <a:ext cx="592452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19:06:00Z</dcterms:created>
  <dc:creator>Darien Public Schools</dc:creator>
  <dc:description/>
  <dc:language>en-US</dc:language>
  <cp:lastModifiedBy>Local User</cp:lastModifiedBy>
  <dcterms:modified xsi:type="dcterms:W3CDTF">2012-03-05T14:47:01Z</dcterms:modified>
  <cp:revision>16</cp:revision>
  <dc:subject/>
  <dc:title>Russia</dc:title>
</cp:coreProperties>
</file>